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6FE-34A3-4246-A422-EA55DF9A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781-9F52-45A3-B5B3-EA2F0D10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EED-6EC4-4A98-8C02-E1E8287E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FBE-106F-4706-BFFC-BA8482CD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8AF-C8FF-461C-8B42-D07EDE1C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DE50-268D-4639-A80B-8DC052C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6ED3-B1AA-475F-838B-B288272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20E-37E2-4FD6-AA2B-E90461BF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2DCE-42FC-4CD8-8353-187AE895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1DB1-7512-444F-8A9F-CC72E86F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861-7186-4CA8-ACC9-FF3339D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E4F-8648-447C-A47E-6A3D8E07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2450-A161-4822-BE62-D4B5D981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CDC8-A8FC-4708-93C2-31459E4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392E-A661-43BA-82AE-EAF9AD16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AE57-E1A1-4E6F-BDCB-0CF8D148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F0F9-CF79-47B8-8499-77D71244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F84A-B135-4D69-AAB5-1E87A80E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9329-DBDE-4373-9399-ED77D5A7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5266-3FAF-4AF8-9A30-FA9920FD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4C00-3824-45B9-B704-3CC3C218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1151-32C6-4AFB-ACD5-E45B9110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37C-ACEB-4885-85B7-FF5358D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3FF2-C30B-480F-822E-6256EB7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D5D2-E29B-44B2-AD14-65E3EF1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0D2A-CD23-4FE4-80DC-B0D5DFAF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EDFC-7FBD-4935-AE28-BA4EA75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37AA-F5BF-4248-BA8A-DFCA32B9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7C0D-9B89-4899-9A75-1B64E837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4B5C-B6E2-41A2-9DB7-A03261FC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67C10-E445-40C1-84A4-123FA7FE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18EC-D920-48B3-9D1D-BBAFF543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099A-DBA1-4EB3-9703-A55A334C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4BA-4ACF-4A81-B669-3C2E6F5D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F7CF-C0BF-4011-BB10-6DC2AFEC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D6BA-B673-4F46-95BD-A6E10A9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6949-CDED-4963-BA56-2688049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8ADA-06F1-4153-83BA-00C9A9A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FAA8-3203-4D28-B506-CB397DC0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7E72-44EF-47C9-8167-D302166E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79DC-19D7-4115-B181-0567940F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0CBA-62A9-4215-AFAE-F0172B65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371D-67FA-43A8-9795-A5F65218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7C668-EEFD-43AB-B8AF-0BEC2126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A77-B9BB-4FC0-82C0-3085A4E2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6A90-8B64-4327-A9CA-05A21EBD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83077-C247-43C9-AE69-8CA3FED8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90247-9064-4A9A-B646-49630798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6F9E9-FA02-4AE5-870B-2CA3C21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E2B7-25B1-4565-94DA-2908C6A9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BD0F-6532-4F7F-A7A7-13A1912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6FC2-C65C-438B-AE5C-EC2EB50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D323-81DC-4F4A-A54B-789C4C8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9F587-705B-4032-A572-6550C25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CEA6-2490-4B8B-800B-C4CDCD0F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605-3585-498E-A7B4-32A71BCB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E2E12-80DA-47A1-A4A8-26062C03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D0D7-BFE4-43B3-A352-30149ED3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B386-D751-4EBF-B62E-83BC58E3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06718-DB6C-49E2-9A3E-3CDE86F2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683FD-E0BF-4480-AAE8-CAF52ED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DB3E-3CB8-4752-A3F0-C82FCA80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6397-94A9-4E9F-AE88-166D9C6E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E847-27F2-4237-86E5-418E958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84C40-C9C2-4743-AC18-FD4F792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B21A-5DBE-4275-896D-ED987CD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9DC-20DE-43D1-A53F-29E28B5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36D50-48D8-4D98-9AA5-1E2292A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78CB8-33EC-49D3-9E36-E6DD6958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3C8D-2F7E-4CDF-8B70-75BB0DD4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8635A-A462-473E-BE30-76B8D808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54A6C-CC44-4E99-8FF2-088E40A6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68CD4-A858-40CA-BFED-F04A6F50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CFD5-AE3D-45F3-A227-20A8CC4A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1A3D-A56F-4A1E-8D01-4E76C03B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3E330-B78E-4C83-965C-5496AEF0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1A4D-BC82-4648-AC74-2AC7BDC4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326-262F-44F7-9C27-4D167C6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43C2-7816-46C2-B4DE-3F3309B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EB47C-6137-4EED-9E0A-79804098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E0589-EB25-4F2D-92B3-9C36CD65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AA54-616A-48B7-B0AE-F5740051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7B755-CEE5-462D-B63E-8CB3B4CB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046BB-5B0F-4BE8-8083-BE9FAA7F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8AC67-B49D-4ACC-88C0-2E856E48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CA0A4-A57F-4D6F-89F7-8DD5FC34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FA8B-1D1C-4A01-B5B2-5F5E766E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8AB3-88F2-4010-AE09-CFE9625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506-6690-44F1-B202-2E598BCC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C827B-ADC1-46B5-A904-87599F6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B2958-688F-4823-A444-C5BD30E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95A87-1F26-41FA-988F-7102D64A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E93D8-54F7-4098-8011-663942D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1FF2A-587B-4955-9BA0-971A827D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ABB0-17A6-42C4-9314-FD1CB591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CA0B-79D6-442B-9074-33995DA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3D4F-E5CB-4C14-962F-1B619AACE975}" type="datetime">
              <a:rPr b="0" lang="es-AR" sz="1400" spc="-1" strike="noStrike">
                <a:solidFill>
                  <a:srgbClr val="323232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B4E7-0CB0-4D21-BBC9-911C73ECA364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1571760"/>
            <a:ext cx="7315200" cy="335592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1571760"/>
            <a:ext cx="228600" cy="33559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9878-79B4-4803-813B-E07E7B640423}" type="datetime">
              <a:rPr b="0" lang="es-AR" sz="1400" spc="-1" strike="noStrike">
                <a:solidFill>
                  <a:srgbClr val="323232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B96C-8D1F-468A-9634-0071E9CF96B2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e3de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EA2-5107-43CB-B720-2D306BCA60CE}" type="datetime">
              <a:rPr b="0" lang="es-AR" sz="1400" spc="-1" strike="noStrike">
                <a:solidFill>
                  <a:srgbClr val="e3ded1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e3de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078-04F7-4FBA-9995-D27BD1A06CF5}" type="slidenum">
              <a:rPr b="0" lang="es-AR" sz="1400" spc="-1" strike="noStrike">
                <a:solidFill>
                  <a:srgbClr val="e3ded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CE3-2ED1-4981-9E26-AAC19A447951}" type="datetime">
              <a:rPr b="0" lang="es-AR" sz="1400" spc="-1" strike="noStrike">
                <a:solidFill>
                  <a:srgbClr val="323232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08BB-2E60-4039-9A54-4D67CDE72BB4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6BA8-ADB3-4B79-B86B-70B6917D6F72}" type="datetime">
              <a:rPr b="0" lang="es-AR" sz="1400" spc="-1" strike="noStrike">
                <a:solidFill>
                  <a:srgbClr val="323232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4117-D22D-406D-AB2F-5124F51B4C6A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358D-3C5D-4294-B360-3C50C5E96EB5}" type="datetime">
              <a:rPr b="0" lang="es-AR" sz="1400" spc="-1" strike="noStrike">
                <a:solidFill>
                  <a:srgbClr val="323232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4C9-7FA8-4273-98F3-1F13AFD7603F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e3de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3028-8921-4510-ACCC-DE60376F12F7}" type="datetime">
              <a:rPr b="0" lang="es-AR" sz="1400" spc="-1" strike="noStrike">
                <a:solidFill>
                  <a:srgbClr val="e3ded1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e3ded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6BAD-C28B-4F48-988A-ED1123F9A41D}" type="slidenum">
              <a:rPr b="0" lang="es-AR" sz="1400" spc="-1" strike="noStrike">
                <a:solidFill>
                  <a:srgbClr val="e3ded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FF8F-E8DF-4F94-A464-E81C65D42765}" type="datetime">
              <a:rPr b="0" lang="es-AR" sz="1400" spc="-1" strike="noStrike">
                <a:solidFill>
                  <a:srgbClr val="323232"/>
                </a:solidFill>
                <a:latin typeface="Gill Sans MT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32323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67A7-1671-49EA-B176-45AC014E86C6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1643040"/>
            <a:ext cx="6858000" cy="3214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Bookman Old Style"/>
              </a:rPr>
              <a:t>OPERACIONES CANCELADAS CON TARJETAS DE DÉBITO Y/O CRÉDITO EN LAS QUE SE REALIZA UN DESCUENTO AL CLIENTE A TRAVÉS DE DICHAS TARJETAS</a:t>
            </a:r>
            <a:br>
              <a:rPr sz="2900"/>
            </a:br>
            <a:r>
              <a:rPr b="1" lang="es-AR" sz="2400" spc="-1" strike="noStrike">
                <a:solidFill>
                  <a:srgbClr val="000000"/>
                </a:solidFill>
                <a:latin typeface="Bookman Old Style"/>
              </a:rPr>
              <a:t>RES. 40/11 (SDG TLI) DEL 26/7/11</a:t>
            </a:r>
            <a:endParaRPr b="0" lang="en-US" sz="24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solidFill>
            <a:srgbClr val="f2ce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23232"/>
                </a:solidFill>
                <a:latin typeface="Bookman Old Style"/>
              </a:rPr>
              <a:t>HUMBERTO J. BERTAZZ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1 Título"/>
          <p:cNvSpPr/>
          <p:nvPr/>
        </p:nvSpPr>
        <p:spPr>
          <a:xfrm>
            <a:off x="928800" y="5929200"/>
            <a:ext cx="1500120" cy="7858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Bookman Old Style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Bookman Old Style"/>
              </a:rPr>
              <a:t>9/11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323232"/>
                </a:solidFill>
                <a:latin typeface="Bookman Old Style"/>
              </a:rPr>
              <a:t>OPERATORIA</a:t>
            </a:r>
            <a:endParaRPr b="0" lang="en-US" sz="48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6" name="4 Rectángulo redondeado"/>
          <p:cNvSpPr/>
          <p:nvPr/>
        </p:nvSpPr>
        <p:spPr>
          <a:xfrm>
            <a:off x="857160" y="16430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Gill Sans MT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5 Rectángulo redondeado"/>
          <p:cNvSpPr/>
          <p:nvPr/>
        </p:nvSpPr>
        <p:spPr>
          <a:xfrm>
            <a:off x="6215040" y="16430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Gill Sans MT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USUARIO TARJ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6 Rectángulo redondeado"/>
          <p:cNvSpPr/>
          <p:nvPr/>
        </p:nvSpPr>
        <p:spPr>
          <a:xfrm>
            <a:off x="3429000" y="3929040"/>
            <a:ext cx="21430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Gill Sans MT"/>
              </a:rPr>
              <a:t>ENTIDAD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AR" sz="2000" spc="-1" strike="noStrike">
                <a:solidFill>
                  <a:srgbClr val="000000"/>
                </a:solidFill>
                <a:latin typeface="Gill Sans MT"/>
              </a:rPr>
              <a:t>TARJE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8 Conector angular"/>
          <p:cNvCxnSpPr>
            <a:stCxn id="358" idx="3"/>
            <a:endCxn id="357" idx="3"/>
          </p:cNvCxnSpPr>
          <p:nvPr/>
        </p:nvCxnSpPr>
        <p:spPr>
          <a:xfrm flipV="1">
            <a:off x="5572080" y="2177280"/>
            <a:ext cx="2572560" cy="2288520"/>
          </a:xfrm>
          <a:prstGeom prst="bentConnector3">
            <a:avLst>
              <a:gd name="adj1" fmla="val 1088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12 Conector recto de flecha"/>
          <p:cNvCxnSpPr>
            <a:stCxn id="356" idx="3"/>
            <a:endCxn id="357" idx="1"/>
          </p:cNvCxnSpPr>
          <p:nvPr/>
        </p:nvCxnSpPr>
        <p:spPr>
          <a:xfrm>
            <a:off x="2785680" y="2177640"/>
            <a:ext cx="3429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16 Conector angular"/>
          <p:cNvCxnSpPr>
            <a:stCxn id="358" idx="1"/>
            <a:endCxn id="356" idx="1"/>
          </p:cNvCxnSpPr>
          <p:nvPr/>
        </p:nvCxnSpPr>
        <p:spPr>
          <a:xfrm rot="10800000">
            <a:off x="856440" y="2177280"/>
            <a:ext cx="2572560" cy="2288520"/>
          </a:xfrm>
          <a:prstGeom prst="bentConnector3">
            <a:avLst>
              <a:gd name="adj1" fmla="val 1088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62" name="21 CuadroTexto"/>
          <p:cNvSpPr/>
          <p:nvPr/>
        </p:nvSpPr>
        <p:spPr>
          <a:xfrm>
            <a:off x="5786280" y="3571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PAGO COMPRA MENOS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22 CuadroTexto"/>
          <p:cNvSpPr/>
          <p:nvPr/>
        </p:nvSpPr>
        <p:spPr>
          <a:xfrm>
            <a:off x="78588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PRESENTACIÓN CUP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23 CuadroTexto"/>
          <p:cNvSpPr/>
          <p:nvPr/>
        </p:nvSpPr>
        <p:spPr>
          <a:xfrm>
            <a:off x="5857920" y="46432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ACREDITACIÓN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24 CuadroTexto"/>
          <p:cNvSpPr/>
          <p:nvPr/>
        </p:nvSpPr>
        <p:spPr>
          <a:xfrm>
            <a:off x="785880" y="471492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PAGO LIQUIDACIÓN DEDUCCIÓN DESCUENTO NO FACTURA NI DISCRIMINA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25 CuadroTexto"/>
          <p:cNvSpPr/>
          <p:nvPr/>
        </p:nvSpPr>
        <p:spPr>
          <a:xfrm>
            <a:off x="3143160" y="18572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FA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Gill Sans MT"/>
              </a:rPr>
              <a:t>SIN DESCUENTO EMISIÓN TICKET Y CUP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5 Marcador de número de diapositiva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0E6-B0DA-4EE3-A1C3-BFA45704258F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25 Conector angular"/>
          <p:cNvCxnSpPr>
            <a:stCxn id="356" idx="2"/>
          </p:cNvCxnSpPr>
          <p:nvPr/>
        </p:nvCxnSpPr>
        <p:spPr>
          <a:xfrm flipH="1" rot="16200000">
            <a:off x="2482920" y="2053800"/>
            <a:ext cx="714960" cy="2036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29 Conector recto de flecha"/>
          <p:cNvCxnSpPr/>
          <p:nvPr/>
        </p:nvCxnSpPr>
        <p:spPr>
          <a:xfrm flipH="1">
            <a:off x="3855240" y="343008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32 Forma"/>
          <p:cNvCxnSpPr>
            <a:stCxn id="357" idx="2"/>
          </p:cNvCxnSpPr>
          <p:nvPr/>
        </p:nvCxnSpPr>
        <p:spPr>
          <a:xfrm rot="5400000">
            <a:off x="5768280" y="2017800"/>
            <a:ext cx="714960" cy="210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35 Conector recto de flecha"/>
          <p:cNvCxnSpPr/>
          <p:nvPr/>
        </p:nvCxnSpPr>
        <p:spPr>
          <a:xfrm flipH="1">
            <a:off x="5071680" y="343008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323232"/>
                </a:solidFill>
                <a:latin typeface="Bookman Old Style"/>
              </a:rPr>
              <a:t>LIQUIDACIÓN IVA</a:t>
            </a:r>
            <a:endParaRPr b="0" lang="en-US" sz="48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3" name="4 Rectángulo redondeado"/>
          <p:cNvSpPr/>
          <p:nvPr/>
        </p:nvSpPr>
        <p:spPr>
          <a:xfrm>
            <a:off x="2286000" y="142884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Gill Sans MT"/>
              </a:rPr>
              <a:t>DÉBIT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Gill Sans MT"/>
              </a:rPr>
              <a:t>ART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5 Rectángulo redondeado"/>
          <p:cNvSpPr/>
          <p:nvPr/>
        </p:nvSpPr>
        <p:spPr>
          <a:xfrm>
            <a:off x="7072200" y="142884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Gill Sans MT"/>
              </a:rPr>
              <a:t>IVA </a:t>
            </a:r>
            <a:r>
              <a:rPr b="1" lang="es-AR" sz="1600" spc="-1" strike="noStrike">
                <a:solidFill>
                  <a:srgbClr val="000000"/>
                </a:solidFill>
                <a:latin typeface="Gill Sans MT"/>
              </a:rPr>
              <a:t>DETERM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6 Rectángulo redondeado"/>
          <p:cNvSpPr/>
          <p:nvPr/>
        </p:nvSpPr>
        <p:spPr>
          <a:xfrm>
            <a:off x="4643280" y="3000240"/>
            <a:ext cx="2357640" cy="17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Gill Sans MT"/>
              </a:rPr>
              <a:t>ADI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Gill Sans MT"/>
              </a:rPr>
              <a:t>IVA RESULTANTE DE DESCUENTOS, BONIFICACIONES, QUITAS </a:t>
            </a:r>
            <a:r>
              <a:rPr b="1" lang="es-AR" sz="1500" spc="-1" strike="noStrike" u="sng">
                <a:solidFill>
                  <a:srgbClr val="000000"/>
                </a:solidFill>
                <a:uFillTx/>
                <a:latin typeface="Gill Sans MT"/>
              </a:rPr>
              <a:t>OTORGADAS SOBRE  VEN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26 Rectángulo redondeado"/>
          <p:cNvSpPr/>
          <p:nvPr/>
        </p:nvSpPr>
        <p:spPr>
          <a:xfrm>
            <a:off x="4857840" y="142884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Gill Sans MT"/>
              </a:rPr>
              <a:t>CRÉDIT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ill Sans MT"/>
              </a:rPr>
              <a:t>ART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28 Conector recto de flecha"/>
          <p:cNvCxnSpPr>
            <a:stCxn id="376" idx="3"/>
            <a:endCxn id="374" idx="1"/>
          </p:cNvCxnSpPr>
          <p:nvPr/>
        </p:nvCxnSpPr>
        <p:spPr>
          <a:xfrm>
            <a:off x="6786360" y="196380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30 Conector recto de flecha"/>
          <p:cNvCxnSpPr>
            <a:stCxn id="373" idx="3"/>
            <a:endCxn id="376" idx="1"/>
          </p:cNvCxnSpPr>
          <p:nvPr/>
        </p:nvCxnSpPr>
        <p:spPr>
          <a:xfrm>
            <a:off x="4214880" y="19638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38 Conector recto de flecha"/>
          <p:cNvCxnSpPr>
            <a:stCxn id="376" idx="2"/>
            <a:endCxn id="375" idx="0"/>
          </p:cNvCxnSpPr>
          <p:nvPr/>
        </p:nvCxnSpPr>
        <p:spPr>
          <a:xfrm flipH="1">
            <a:off x="5820480" y="2499840"/>
            <a:ext cx="25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42 Rectángulo redondeado"/>
          <p:cNvSpPr/>
          <p:nvPr/>
        </p:nvSpPr>
        <p:spPr>
          <a:xfrm>
            <a:off x="2071800" y="3000240"/>
            <a:ext cx="2357280" cy="17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Gill Sans MT"/>
              </a:rPr>
              <a:t>ADI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0000"/>
                </a:solidFill>
                <a:latin typeface="Gill Sans MT"/>
              </a:rPr>
              <a:t>IVA RESULTANTE DE DEVOLUCIONES, DESCUENTOS, BONIFICACIONES </a:t>
            </a:r>
            <a:r>
              <a:rPr b="1" lang="es-AR" sz="1500" spc="-1" strike="noStrike" u="sng">
                <a:solidFill>
                  <a:srgbClr val="000000"/>
                </a:solidFill>
                <a:uFillTx/>
                <a:latin typeface="Gill Sans MT"/>
              </a:rPr>
              <a:t>LOGRADAS SOBRE COMP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45 Conector recto de flecha"/>
          <p:cNvCxnSpPr>
            <a:stCxn id="373" idx="2"/>
            <a:endCxn id="380" idx="0"/>
          </p:cNvCxnSpPr>
          <p:nvPr/>
        </p:nvCxnSpPr>
        <p:spPr>
          <a:xfrm flipH="1">
            <a:off x="3249360" y="249984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46 Rectángulo redondeado"/>
          <p:cNvSpPr/>
          <p:nvPr/>
        </p:nvSpPr>
        <p:spPr>
          <a:xfrm>
            <a:off x="4857840" y="50720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Gill Sans MT"/>
              </a:rPr>
              <a:t>DESCUENTOS EN CUES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48 Conector recto de flecha"/>
          <p:cNvCxnSpPr>
            <a:stCxn id="375" idx="2"/>
            <a:endCxn id="382" idx="0"/>
          </p:cNvCxnSpPr>
          <p:nvPr/>
        </p:nvCxnSpPr>
        <p:spPr>
          <a:xfrm flipH="1">
            <a:off x="5820480" y="47163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49 Rectángulo redondeado"/>
          <p:cNvSpPr/>
          <p:nvPr/>
        </p:nvSpPr>
        <p:spPr>
          <a:xfrm>
            <a:off x="142920" y="1428840"/>
            <a:ext cx="178596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Gill Sans MT"/>
              </a:rPr>
              <a:t>BASE IMPONIBLE PRECIO NETO ART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51 Conector recto de flecha"/>
          <p:cNvCxnSpPr>
            <a:stCxn id="384" idx="3"/>
            <a:endCxn id="373" idx="1"/>
          </p:cNvCxnSpPr>
          <p:nvPr/>
        </p:nvCxnSpPr>
        <p:spPr>
          <a:xfrm>
            <a:off x="1928880" y="196380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52 Marcador de número de diapositiva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355-8F4B-4AC8-A7F0-B8CC0046FE9A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323232"/>
                </a:solidFill>
                <a:latin typeface="Bookman Old Style"/>
              </a:rPr>
              <a:t>POSICIÓN FISCAL</a:t>
            </a:r>
            <a:endParaRPr b="0" lang="en-US" sz="44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El vendedor es el que otorga el descuento en virtud del medio de pago utilizado por el comprador (tarjeta de débito o crédito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Dicho descuento debe materializarse a través de una nota de crédit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ill Sans MT"/>
              </a:rPr>
              <a:t>Una vez emitido la NC se imputará el CF en el período fiscal pertinen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3290-C046-4D3E-8369-F1017B5B95B2}" type="slidenum">
              <a:rPr b="0" lang="es-AR" sz="1400" spc="-1" strike="noStrike">
                <a:solidFill>
                  <a:srgbClr val="323232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20:22Z</dcterms:created>
  <dc:creator>Nancy</dc:creator>
  <dc:description/>
  <dc:language>en-US</dc:language>
  <cp:lastModifiedBy>Nancy</cp:lastModifiedBy>
  <dcterms:modified xsi:type="dcterms:W3CDTF">2011-11-08T13:56:16Z</dcterms:modified>
  <cp:revision>9</cp:revision>
  <dc:subject/>
  <dc:title>OPERACIONES CANCELADAS CON TARJETAS DE DÉBITO Y/O CRÉDITO EN LAS QUE SE REALIZA UN DESCUENTO AL CLIENTE A TRAVÉS DE DICHAS TARJETAS RES. 40/11 (SDG TLI) DEL 26/7/11</dc:title>
</cp:coreProperties>
</file>